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18335"/>
        <c:axId val="37788606"/>
      </c:barChart>
      <c:catAx>
        <c:axId val="85018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88606"/>
        <c:crosses val="autoZero"/>
        <c:auto val="1"/>
        <c:lblAlgn val="ctr"/>
        <c:lblOffset val="100"/>
        <c:noMultiLvlLbl val="0"/>
      </c:catAx>
      <c:valAx>
        <c:axId val="37788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8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33C-064B-40F8-A6C5-E79D10F8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BFD-A33F-4E32-B4EA-7E7FCB02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F30-A228-4CF6-87A7-A7C2FF99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C67-E5CC-4B09-A63A-5EA2652F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001-3705-46BB-8E2D-2F7F2B2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726-8BE7-48CF-98A3-9C47E799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C9C-0767-4BC4-A5F8-F7EF9569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2AC-5F86-4C0D-AA3A-0BED4DF2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769-BC6B-4213-A963-A3927DAB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57D-617E-473D-A099-749CC1B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679-061A-414E-8A7E-3F9D3B6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6FB-A0EE-4B73-8A3E-886FFDF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7E7F0-E18A-4D36-99C8-F0A09ACAE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